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93E-D982-43DA-9BC1-46A1931D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FFF-4CC9-4FF0-9047-9B32B514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1BC-6926-47BF-AF29-BFA18B23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8AF5-68B5-4975-857E-C2ABA114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D50-5607-48D8-A964-54E26A08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DF88-4D20-4913-B9BD-342E53BD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707F-6B73-46B4-BD7E-E11B5C94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2B8-AD09-498A-BC54-50073D43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9B9-BFE9-4477-8879-83531731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7619-7012-4131-BE68-456B5D04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183E-37BE-4690-A2F0-EB7E44D0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2F92-7361-415E-BBEF-6D9E1463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1909-CA0C-45E3-B950-5F7AD15AE4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fd293"/>
                </a:solidFill>
                <a:latin typeface="Arial"/>
              </a:rPr>
              <a:t>Lesson 9.7</a:t>
            </a:r>
            <a:br>
              <a:rPr sz="7500"/>
            </a:br>
            <a:r>
              <a:rPr b="0" lang="en-US" sz="7500" spc="-1" strike="noStrike">
                <a:solidFill>
                  <a:srgbClr val="dfd293"/>
                </a:solidFill>
                <a:latin typeface="Arial"/>
              </a:rPr>
              <a:t>part one</a:t>
            </a:r>
            <a:endParaRPr b="0" lang="en-US" sz="75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results from an experimen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ample Spac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 list of all possible outcome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Even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 subcollection of a sample spac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likelihood an event will occur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# of favorable outcomes divided by # of possible outcom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Determine the sample space: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wo coins are flipped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ick any two vowel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A deck of 52 cards is used.  Find the probability of randomly picking: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 black card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 hear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Red face card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Roll two dice.  Find the probability that: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Both dice are fiv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sum on the dice is 4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fd293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fd293"/>
                </a:solidFill>
                <a:latin typeface="Arial"/>
              </a:rPr>
              <a:t>Page 682 </a:t>
            </a:r>
            <a:br>
              <a:rPr sz="7500"/>
            </a:br>
            <a:r>
              <a:rPr b="0" lang="en-US" sz="7500" spc="-1" strike="noStrike">
                <a:solidFill>
                  <a:srgbClr val="dfd293"/>
                </a:solidFill>
                <a:latin typeface="Arial"/>
              </a:rPr>
              <a:t>#1-19</a:t>
            </a:r>
            <a:endParaRPr b="0" lang="en-US" sz="75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34:09Z</dcterms:created>
  <dc:creator>jnewman</dc:creator>
  <dc:description/>
  <dc:language>en-US</dc:language>
  <cp:lastModifiedBy>abeason</cp:lastModifiedBy>
  <dcterms:modified xsi:type="dcterms:W3CDTF">2010-03-19T13:41:41Z</dcterms:modified>
  <cp:revision>6</cp:revision>
  <dc:subject/>
  <dc:title>Lesson 9.7 part one</dc:title>
</cp:coreProperties>
</file>